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58B1-8A3A-4807-99F9-470D5BDDA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B234-3013-49C8-B877-620C6B93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1B26-6C48-435B-8C34-03505876B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7FBA-993E-4451-B1A8-B3B8FB1A9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0DAA-70C5-4D08-A855-69B0B4CE1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84B0-57A4-4E60-8433-BFA688E58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529D-D156-4133-8A8E-409FD105F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DA3A-75BB-4CA2-8038-A3DDD943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E72D-E516-4C6F-A67B-6B6C30FD0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71C3-1119-4679-A62E-A4EFF7C59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134-69EB-46AC-AE97-4DCF3EC5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C8A-D543-4638-99A0-D1C4BCAA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FFB-CC0F-4131-B107-6C1D668E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90E-FA5F-4BB1-A448-C70730BC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0F7A-166B-4265-9605-C0929890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BDB0-5DC5-4CF8-9B44-8C9ECF1E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4619-F01A-4A1D-B04A-8D72A156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EF12-B25E-44D7-8C1B-9F9D716D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09FA-11FE-43FC-A39F-C1756C4C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FE05-133E-4D99-996C-69AED72E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B250-4ACE-43DC-93AF-7FE6A94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9D7-B1F8-458B-A140-55AA6064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EEFF-9CC2-4D0B-843E-586A74FE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C530-A544-4617-8EB3-278841B1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ABFD-87CB-44E8-8D03-156D8703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6880-E58B-43DD-B83D-FC27D56F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8E64-167B-4A42-BD0C-D2C0D58C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F51-1EAB-47FD-8668-F2AA6C5B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1E9-802D-4859-A343-0858EFEB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449-5781-4719-BB1C-E20298B6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FCE-C45E-4653-B6DE-9B64128D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927-C7B0-457F-A36E-1989597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9C2-BB35-406E-B74B-0775363C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5CC-F7D1-4EB2-980C-CA3A1655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3D1A-1F52-414F-A30A-B42637389C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F714-52E6-43C9-9A35-CD6CE90676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1752120"/>
            <a:ext cx="678168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ECHNOLOGY IN EL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313680" cy="17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A COMPUT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ICROCOMPU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172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information system has five parts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2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w, unprocessed facts including text, numbers, images and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describes something that is stored electronically in a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files created by word proces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heet files crated by spread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file created by database management progra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ation files created by presentation graphics progra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ONENTS OF A COMPUTER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2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uter system has three main component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uter system performs 4 important tasks (Sharp, 2005:3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ing input : figures, facts or sets of instr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ing information : place in mem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ing the data : act on the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ing the information : process and generat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ASK OF COMPUTER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533520" y="2666880"/>
            <a:ext cx="1523880" cy="838440"/>
          </a:xfrm>
          <a:prstGeom prst="rect">
            <a:avLst/>
          </a:prstGeom>
          <a:solidFill>
            <a:srgbClr val="cc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5"/>
          <p:cNvCxnSpPr/>
          <p:nvPr/>
        </p:nvCxnSpPr>
        <p:spPr>
          <a:xfrm>
            <a:off x="2437920" y="3123720"/>
            <a:ext cx="839160" cy="1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5" name="Oval 6"/>
          <p:cNvSpPr/>
          <p:nvPr/>
        </p:nvSpPr>
        <p:spPr>
          <a:xfrm>
            <a:off x="3581280" y="2590920"/>
            <a:ext cx="1676520" cy="99036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8"/>
          <p:cNvCxnSpPr/>
          <p:nvPr/>
        </p:nvCxnSpPr>
        <p:spPr>
          <a:xfrm>
            <a:off x="5486400" y="3123720"/>
            <a:ext cx="991440" cy="1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Rectangle 9"/>
          <p:cNvSpPr/>
          <p:nvPr/>
        </p:nvSpPr>
        <p:spPr>
          <a:xfrm>
            <a:off x="6781680" y="2743200"/>
            <a:ext cx="1752840" cy="762120"/>
          </a:xfrm>
          <a:prstGeom prst="rect">
            <a:avLst/>
          </a:prstGeom>
          <a:solidFill>
            <a:srgbClr val="cc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11"/>
          <p:cNvCxnSpPr/>
          <p:nvPr/>
        </p:nvCxnSpPr>
        <p:spPr>
          <a:xfrm>
            <a:off x="4190760" y="3657600"/>
            <a:ext cx="1080" cy="83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Straight Arrow Connector 14"/>
          <p:cNvCxnSpPr/>
          <p:nvPr/>
        </p:nvCxnSpPr>
        <p:spPr>
          <a:xfrm flipV="1">
            <a:off x="4800240" y="3657240"/>
            <a:ext cx="1080" cy="83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Rounded Rectangle 16"/>
          <p:cNvSpPr/>
          <p:nvPr/>
        </p:nvSpPr>
        <p:spPr>
          <a:xfrm>
            <a:off x="3200400" y="4876920"/>
            <a:ext cx="2743200" cy="10666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 MAIN ASPECTS OF DATA HANDL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de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ccept data or commands in a form that the computer can use: they send the data or commands to the processing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nown as CPU, has electronic circuitry that manipulates input data into information that people require. The CPU execute computer 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isplay the people the processed data; information in understandable and us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eans secondary storage; consists of secondary storage devices such as hard disk, diskettes, pendr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store data and programmes outside the computer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se devices supplement memory or primary storage, can hold data or programmes temporar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Inpu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3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put refers to any data or instructions that are used by a computer. All computer processing requires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ever you use computer or application software, you are providing input. You typically use a keyboard to type text and a mouse to issue comma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put De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yst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uch Scr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 code r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 tabl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ice recognit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Proces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0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mputer manipulates the data to create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refers to data processed into a form that has meaning and is use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ing Devices/System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9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her board/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PU/Microproces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– RAM, 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ansion Slots and C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Cl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 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s and C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-743040">
              <a:buClr>
                <a:srgbClr val="33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Outpu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5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processed data or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ut devices provide output to people by translating what the computer has processed into a form that people can understand and 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ONENTS OF INFORMATION TECHN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9" name="Diagram 8"/>
          <p:cNvGrpSpPr/>
          <p:nvPr/>
        </p:nvGrpSpPr>
        <p:grpSpPr>
          <a:xfrm>
            <a:off x="2139120" y="1600200"/>
            <a:ext cx="4941360" cy="4888800"/>
            <a:chOff x="2139120" y="1600200"/>
            <a:chExt cx="4941360" cy="4888800"/>
          </a:xfrm>
        </p:grpSpPr>
        <p:sp>
          <p:nvSpPr>
            <p:cNvPr id="160" name="_s1028"/>
            <p:cNvSpPr/>
            <p:nvPr/>
          </p:nvSpPr>
          <p:spPr>
            <a:xfrm flipH="1" flipV="1">
              <a:off x="3390840" y="3826800"/>
              <a:ext cx="609840" cy="20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29"/>
            <p:cNvSpPr/>
            <p:nvPr/>
          </p:nvSpPr>
          <p:spPr>
            <a:xfrm>
              <a:off x="2139120" y="2964960"/>
              <a:ext cx="1281600" cy="131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0"/>
            <p:cNvSpPr/>
            <p:nvPr/>
          </p:nvSpPr>
          <p:spPr>
            <a:xfrm flipH="1">
              <a:off x="3856680" y="4766040"/>
              <a:ext cx="3772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1"/>
            <p:cNvSpPr/>
            <p:nvPr/>
          </p:nvSpPr>
          <p:spPr>
            <a:xfrm>
              <a:off x="2838600" y="5172840"/>
              <a:ext cx="1281600" cy="131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2"/>
            <p:cNvSpPr/>
            <p:nvPr/>
          </p:nvSpPr>
          <p:spPr>
            <a:xfrm>
              <a:off x="4987440" y="4763880"/>
              <a:ext cx="3769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3"/>
            <p:cNvSpPr/>
            <p:nvPr/>
          </p:nvSpPr>
          <p:spPr>
            <a:xfrm>
              <a:off x="5099040" y="5172840"/>
              <a:ext cx="1281600" cy="131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34"/>
            <p:cNvSpPr/>
            <p:nvPr/>
          </p:nvSpPr>
          <p:spPr>
            <a:xfrm flipV="1">
              <a:off x="5218560" y="3825360"/>
              <a:ext cx="609840" cy="20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35"/>
            <p:cNvSpPr/>
            <p:nvPr/>
          </p:nvSpPr>
          <p:spPr>
            <a:xfrm>
              <a:off x="5798880" y="2964960"/>
              <a:ext cx="1281600" cy="131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 flipV="1">
              <a:off x="4609800" y="2916000"/>
              <a:ext cx="0" cy="65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7"/>
            <p:cNvSpPr/>
            <p:nvPr/>
          </p:nvSpPr>
          <p:spPr>
            <a:xfrm>
              <a:off x="3969000" y="1600200"/>
              <a:ext cx="1281240" cy="131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38"/>
            <p:cNvSpPr/>
            <p:nvPr/>
          </p:nvSpPr>
          <p:spPr>
            <a:xfrm>
              <a:off x="3969000" y="3576600"/>
              <a:ext cx="1281240" cy="131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put De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2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 – CRT, LC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CD proj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scan conver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Storag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can be stored in a computer for future 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computers have a hard disk drive to store programmes and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orage De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5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vable D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ppy Dr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D-ROM, R, R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VD-ROM, R, R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 Drive, Thumb Drive, Zip Dr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Hard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EST YOUR UNDERSTANDING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sualize these components and draw them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34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c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719000"/>
            <a:ext cx="4038480" cy="39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her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t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B 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2 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ial 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ppy Dr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OUNT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B =_______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KB = _______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MB = _______ 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GB = _______ 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TB = _______ G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700MB = _____ G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28MG = _____ 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512MG = _____ G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6GB = _____ 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56KB = _____ M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nary system works on ____ digits, i.e. _____ and 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equency wave is based on ______ and 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raw th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 CATEGO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2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-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lso known as basic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ncludes browsers, word processors, spreadsheets, database management systems and presentation graph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lso known as advanced applications, include multimedia, web authoring, graphics, virtual reality, artificial intelli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 general-purpose soft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2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d process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read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base Management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information system has five parts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6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important part as they make end-users more produc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information system has five parts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6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 to rules or guidelines people follow when using software, hardware and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ed in manuals written by computer special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d by software/hardware manufacturers of the produ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information system has five parts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2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oftware is the term for programmes or sets of computer instru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 in special computer language that enable a computer to accomplish a given tas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onsists of step-by-step instructions, which the computer can use to convert data into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information system has five parts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 components that are physical, touchable pieces or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onsists of the system unit, input/output, secondary storage and communication de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types of computer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computers – the most powerful type of compu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frame – occupy specially wired, air-conditioned roo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Minicomputers – desk-sized machines used for specif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Microcomputers – include the desktop, notebook and persona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assis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UPERCOMPU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084320" y="1719360"/>
            <a:ext cx="69753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INFR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41044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INICOMPU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630440" y="1719360"/>
            <a:ext cx="58831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6:35:58Z</dcterms:created>
  <dc:creator>user</dc:creator>
  <dc:description/>
  <dc:language>en-US</dc:language>
  <cp:lastModifiedBy>Buckrie</cp:lastModifiedBy>
  <dcterms:modified xsi:type="dcterms:W3CDTF">2012-04-20T01:34:36Z</dcterms:modified>
  <cp:revision>9</cp:revision>
  <dc:subject/>
  <dc:title>TECHNOLOGY IN ELT</dc:title>
</cp:coreProperties>
</file>